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68BE-D1BA-46BA-9DA3-65F7CADEB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CBFC-E60C-4208-93FE-15D32070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85C1-3DFB-4884-8EFB-9A545B798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C522-48C4-4929-9DC3-6CD0FDE14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DDD0-1B63-43B4-9D52-AD8003EF5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B191F-D7B8-4BB7-AC4A-C042D1D9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5C60-41AA-44D3-8D8B-4C59EA89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C537-C80B-4815-A7F1-EA9CFEED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9D459-CE8E-4675-8290-5B4CD984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A63B-3431-4D1D-871A-30DB676C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0204-4BE0-4C59-94A8-A444BAA1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ED6D-F811-4875-A082-87D97A04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987D-E267-4981-A188-32227DF9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B07A-CE61-4628-9E8E-A3F31070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32D9-D269-46C5-94AA-396957C8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37C3-6AC5-4AA6-B0B6-5E7273D53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7CD7-B5C1-4EA1-B295-FC24AC7C6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9A6C-C903-4C79-B17B-A63672CC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8C50-403C-4391-BF5A-47CF13AF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35DB-237F-4A3D-9261-1EC67A90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E446-8441-425B-B241-C3E2793A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7A93-B399-46B2-8C16-7F53CBFD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5F76-DC18-4BDD-A247-9F68AE6E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CA5A-240F-44FA-81D4-D3F6C7C3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6111-8F87-4355-BAF6-E84E8666C7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772B-92E9-436D-91D8-8CD9EB13AA8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Comi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emily fosbe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068120" y="-11160"/>
            <a:ext cx="645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Las comida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10480" y="4241880"/>
            <a:ext cx="408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uhaus 93"/>
              </a:rPr>
              <a:t>By ; Emily Fosbe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1600200"/>
            <a:ext cx="65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38280" y="2895480"/>
            <a:ext cx="518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167652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Para El Desayo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562720" y="3733920"/>
            <a:ext cx="3581280" cy="3124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566680" y="297180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 gusta el huevo y la naranjas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cino y crec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04920" y="4038480"/>
            <a:ext cx="2057400" cy="25243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40" y="335268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o de nara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819520" y="4267080"/>
            <a:ext cx="2305080" cy="2590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110760" y="38466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yog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6986520" y="533520"/>
            <a:ext cx="2157480" cy="2157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463440" y="95076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gof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806920" y="19224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 El Almuerz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1219320"/>
            <a:ext cx="2438280" cy="20574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16000" y="87480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sandw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666880" y="1295280"/>
            <a:ext cx="2610000" cy="19814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807640" y="95076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ensal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5486400" y="1295280"/>
            <a:ext cx="2514600" cy="1905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702400" y="95076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manz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2819520" y="3352680"/>
            <a:ext cx="2428920" cy="3505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188520" y="658980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limo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ara  El Cen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229600" cy="4647960"/>
          </a:xfrm>
          <a:prstGeom prst="rect">
            <a:avLst/>
          </a:prstGeom>
          <a:ln w="0">
            <a:noFill/>
          </a:ln>
        </p:spPr>
      </p:pic>
      <p:grpSp>
        <p:nvGrpSpPr>
          <p:cNvPr id="125" name=""/>
          <p:cNvGrpSpPr/>
          <p:nvPr/>
        </p:nvGrpSpPr>
        <p:grpSpPr>
          <a:xfrm>
            <a:off x="3262320" y="2557440"/>
            <a:ext cx="2619360" cy="1743120"/>
            <a:chOff x="3262320" y="2557440"/>
            <a:chExt cx="2619360" cy="1743120"/>
          </a:xfrm>
        </p:grpSpPr>
        <p:sp>
          <p:nvSpPr>
            <p:cNvPr id="126" name=""/>
            <p:cNvSpPr txBox="1"/>
            <p:nvPr/>
          </p:nvSpPr>
          <p:spPr>
            <a:xfrm>
              <a:off x="3262320" y="2557440"/>
              <a:ext cx="2619360" cy="1743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162920" y="2971800"/>
            <a:ext cx="1485720" cy="1809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225200" y="255096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bift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952880" y="2666880"/>
            <a:ext cx="1447920" cy="21002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635000" y="2093760"/>
            <a:ext cx="17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e de pata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2514600" y="2209680"/>
            <a:ext cx="1886040" cy="25434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653200" y="186516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hot do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685800" y="2209680"/>
            <a:ext cx="1600200" cy="25146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72480" y="186516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piz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457200" y="4876920"/>
            <a:ext cx="1076400" cy="1233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663560" y="529416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le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a Meriend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934320" y="1981080"/>
            <a:ext cx="2209680" cy="2819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769080" y="47610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lomitas de ma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2381040" cy="23716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-380880" y="1600200"/>
            <a:ext cx="3578040" cy="25606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643560" y="4075200"/>
            <a:ext cx="22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atas fritas y sal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6000" y="399888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lletas sal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601200" cy="70102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80880" y="297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ch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63600" y="37702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ch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216280" y="3008160"/>
            <a:ext cx="10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ara el post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086600" y="0"/>
            <a:ext cx="20574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301880" y="1126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1219320"/>
            <a:ext cx="2971800" cy="61149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-88920" y="4761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3048120" y="4038480"/>
            <a:ext cx="3467160" cy="28195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035160" y="369396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lle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3809880" y="0"/>
            <a:ext cx="3286080" cy="34671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025880" y="3636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brow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2:16:59Z</dcterms:created>
  <dc:creator>fosbergemi</dc:creator>
  <dc:description/>
  <dc:language>en-US</dc:language>
  <cp:lastModifiedBy>fosbergemi</cp:lastModifiedBy>
  <dcterms:modified xsi:type="dcterms:W3CDTF">2012-04-05T14:11:56Z</dcterms:modified>
  <cp:revision>5</cp:revision>
  <dc:subject/>
  <dc:title>Las Comidas</dc:title>
</cp:coreProperties>
</file>